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C27-7B12-4450-83BA-247DA35D8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FAD-7791-430A-9B87-7B374310D1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6774-8F1A-4D76-81BF-F2DCCF60E7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D2D-F2E2-4DF9-8508-FB76766CA8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F980-15AB-48A4-8A00-79A9FF3F30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F28-AE93-4016-8E48-88067663FD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—teacher will give choices for character, setting and problem—students v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grades—have movie night, give out awards, let students vote for fav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230-1F1C-44D4-871D-219A3EA2BB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if you want 1 or 2 actors in 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C2E-8482-41C1-A2BE-0A3246FE4D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 sign indicates how much the setting will cost in xp points--$-37 pts. $$--75 points; $$$--150 points; here the primary will pick the setting out of 3 cho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7DBC-8118-43F1-A755-76DBADB189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guage and if it is a male or female. Can preview what voice sound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158-6992-4078-BC87-3E770A58E7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ick background sounds and/or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97DB-04E4-4D0E-A15B-2A64ED1575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add camera angles, motions, facial expressions, look ats, pointing to characters and sounds. Would preview movie, save it and/or publis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6AD-48D9-4167-AE0E-FAC5655730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0DE-FCCD-4F6B-820E-78143F8D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184-CCC0-4EC3-B2CF-AA3CB6C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D02-E109-41EF-A1BF-28C4E5C4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65B-AB29-4CA9-9788-E3D81642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62180-E343-4126-A570-0C33EE82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E4E50-B849-4490-B668-B188F55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AB42-0EF2-49B0-9A48-CE2F8AB6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45A4-9E9D-48CB-B409-45F58136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5DDB-5E1B-4EE5-98B4-8C8177D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F1464-C8BA-4346-BD0A-8275C6E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1D727-8BA6-46DF-97CB-CC47DD3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AFC-28F2-471F-9956-8E82AAE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CA31B-9FEA-43FD-9AF5-6283F83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000B-A7B1-4E34-AE52-3F2F6DA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DEF43-8B75-406B-9280-C8E6A590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0E681-3371-40E2-B5FF-0F999501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A1A4-E246-434F-AFDA-D45E3F07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D11C-E795-434C-BA2D-8A4444D9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AE52-71B9-4C25-A238-ADF5B16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56D5-0C77-4F67-B52D-834AFAD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5DC8-FD62-47A8-85B4-8C82811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8580-C625-4A04-9252-A77353EA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7DF-90C9-480F-AB58-1E0454FF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C368-A1F0-4D17-9209-22CDC5A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1C45-FEF2-4E23-B670-1507553E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18D9-295A-4848-A017-74F28D0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339F-6B3E-4531-8C12-AC33CFE0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CF46-9B26-4BDB-B0A4-B95F11A9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5DB7-640A-4992-8775-D1AD5E2D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45A2-2309-4C9C-9436-9C265D9B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E33D0-946D-4B43-BF5D-C28C85B7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2CCBC-07F6-4CFF-BF47-BB21DAA8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514C0-D575-4492-971B-44E9E97A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CED-E9AA-4991-8D23-FAF09717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44B43-86BA-428E-B6FF-012C75E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85DBC-C0F9-4418-80AE-D451224F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4BF77-7EA5-4868-93F2-487A1F25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B4BC1-02DE-4701-96FF-1F325DB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DDB73-7C23-45FA-BF9A-7103BB1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C0E8D-19A8-4A57-A534-D8A0D2D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3030D-7760-4525-AA3C-D0D0C8BF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59A53-59D0-4F7A-93D8-33912C5F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28739-B30C-42D7-8F61-FF90B346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671-4127-4EFC-8DA9-6EBF0C3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6B7-B076-4F50-9AF3-FB04FC5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D51-A130-400C-9284-0C6A6674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7B1-458B-44C4-AE87-9E8084F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C60-43FC-4BDD-9313-5B71812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02F-2ADF-40F5-8C7F-59419BE12E0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DD6F-7DE9-4035-8C33-7CA971F194E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0B4F-1A77-4BCB-AAD2-11143E403CD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B12-C267-43DD-B110-DC1931AD657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xtranormal.com/watch/11132600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xtranormal.com/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tranormal.com/watchmovie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Mary Hepn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Heather Humphr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http://www.xtranormal.com/watch/11132600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 and movie: </a:t>
            </a:r>
            <a:r>
              <a:rPr b="0" lang="en-US" sz="26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"/>
              </a:rPr>
              <a:t>www.xtranormal.c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by : Mary Hepner and Heather Humphre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"/>
              </a:rPr>
              <a:t>http://www.xtranormal.com/watchmovies/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Components-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Minimum Requirements: Windows XP Service Pack 2, 1GB of RAM, 64 MB, 3D Accelerated Video Card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Only available for PC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ext Placeholder 1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Website-must create an account (must be at least 13 years old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 way to tie in curriculum with making a movi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 can sign up for educator’s vers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 points are free; additional points need to be purchas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ht be blocked by school distri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ppropriate content on Homepag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 requirement to make own accou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4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85" name="Text Placeholder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86" name="Text Placeholder 5" descr=""/>
            <p:cNvPicPr/>
            <p:nvPr/>
          </p:nvPicPr>
          <p:blipFill>
            <a:blip r:embed="rId3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efac9"/>
                  </a:solidFill>
                  <a:latin typeface="Century Gothic"/>
                </a:rPr>
                <a:t>Disadvantag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imary (K-2)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basic story elemen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mediate (3-5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view basic story elements; write own stori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iddle School (6-8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ign a movie to present information to classmat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igh School (9-12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ign a movie implementing more complex components to present information to classmat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255600" y="231840"/>
            <a:ext cx="8437680" cy="1377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1:04:51Z</dcterms:created>
  <dc:creator>Hepner</dc:creator>
  <dc:description/>
  <dc:language>en-US</dc:language>
  <cp:lastModifiedBy>Hepner</cp:lastModifiedBy>
  <dcterms:modified xsi:type="dcterms:W3CDTF">2011-02-14T20:56:43Z</dcterms:modified>
  <cp:revision>24</cp:revision>
  <dc:subject/>
  <dc:title>Web 2.0 Tools-Xtranormal</dc:title>
</cp:coreProperties>
</file>